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entury Schoolbook"/>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1D78CA8-DF96-4B69-A465-6158FB7EF7AA}" type="datetime">
              <a:rPr b="0" lang="en-US" sz="1200" spc="-1" strike="noStrike">
                <a:solidFill>
                  <a:srgbClr val="000000"/>
                </a:solidFill>
                <a:latin typeface="Century Schoolbook"/>
              </a:rPr>
              <a:t>07/30/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82972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829720"/>
            <a:ext cx="29718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entury Schoolbook"/>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9F36D05-6B99-4160-85EC-4C2EFBA68B51}" type="slidenum">
              <a:rPr b="0" lang="en-US" sz="1200" spc="-1" strike="noStrike">
                <a:solidFill>
                  <a:srgbClr val="000000"/>
                </a:solidFill>
                <a:latin typeface="Century School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run custom index reports using the reports catalog section. Under the “Reports” tab and library reports, click on bibliography, call number reports, headings without authority, reading program reports, or shelf lists to generate a list of books with certain characteristics other than author, title, or subject.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4840" y="696960"/>
            <a:ext cx="4648320" cy="3486240"/>
          </a:xfrm>
          <a:prstGeom prst="rect">
            <a:avLst/>
          </a:prstGeom>
          <a:ln w="0">
            <a:noFill/>
          </a:ln>
        </p:spPr>
      </p:sp>
      <p:sp>
        <p:nvSpPr>
          <p:cNvPr id="38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t’s use reading program reports to get a custom index report. First Choose your program Accelerated Reading. Second, choose the reading level and point ranges. Then tell whether you want quizzes with matching titles or not and whether to list them by title, author, or call number.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04840" y="696960"/>
            <a:ext cx="4648320" cy="3486240"/>
          </a:xfrm>
          <a:prstGeom prst="rect">
            <a:avLst/>
          </a:prstGeom>
          <a:ln w="0">
            <a:noFill/>
          </a:ln>
        </p:spPr>
      </p:sp>
      <p:sp>
        <p:nvSpPr>
          <p:cNvPr id="38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run the report to view and prin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D0D3E-BC02-462F-B158-21D3F17BC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DFE27-1036-44C1-A057-62F1D63AE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BD2E3-3120-4F2C-AFFC-E4662F671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FC22F-B2A7-46EE-9A5F-EAF2C5D94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F9822-2610-4B5B-AB66-BB478C8D0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4D251-CD3D-4F6A-815F-2AD87A03E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87BBD-D272-4130-A02C-E4F3E9A66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ED6AF-8E1F-4258-94A9-080BF0557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56284-09A6-4D76-8342-FB171518E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B661A-41A2-4273-9104-068931AE2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D4DAA-5A57-4528-8F40-358418AAD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8C1ED-C6B4-4221-B88C-9294AFD7E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3F896-AAC4-46B2-B853-A24FD4E76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B8FB3-E5AA-400E-96F2-8A225CBCA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EC9C7-0A65-4337-B1EA-01F8DF602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DEEB7-D155-4EAC-8D02-3BC57F295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93E25-6226-48EA-87E4-5A00A2CF2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2FB0122-002D-41EA-8B0F-A3CBC1FAF1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36DD74-8062-4DBD-A0CF-9EFD30843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D361E6A-CEFF-412C-97D9-D6C0F49312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AEF172-9AFC-4600-9429-8EF40E19C2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70881B4-C66A-418E-BC59-6E84AC11F7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46F1F-B500-4E4F-A39E-0778A4A27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09691C-EBD8-4F40-9106-F84E531D2E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A12F07-A67A-4B1C-92CD-7A1EAAC46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0099CC-9F47-4045-8756-412F86E2C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0AD366-307C-4D5A-BBD5-B58F2FAFD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201382-B928-4826-9790-5F5893371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45C6E8F-2027-4BD7-B022-0C9F38DA04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51ED9E7-98D6-4A24-B4CA-22EADCF665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A2BE41-CF28-4852-AC9B-4DA254921E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36EE21-9464-462F-8782-8E075FD8B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6B6EF9-68D5-4394-9FAA-424C27E80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BF2B8-F710-44FC-BFC4-24C6C3C5D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A5149D-2F3A-424B-8ED9-D55984325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6B9A80-F1ED-4EE0-AE68-E1F4BD7A2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74EA7D-F02F-4AF5-BE2D-EB0F9A7FE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00998-B08D-4CAF-A42D-DBCCEE909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ABAE7-EED4-4014-958C-C744327C0C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BC04F-72D4-4FA4-A0C6-EB72EAF57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8C563E-C3EA-4D2F-AA45-5FB6F568B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896EB5-9425-4F49-85CB-7602C9720B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BFD720-13C9-4D69-9956-81A98CDACB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71A7920-38D8-4EB6-8932-BD57E1E5D0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BA321-B011-40A3-9EFE-C26BC2AD1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894982-E535-4225-8213-720B5DEDD1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5E7AF5-5557-4F84-868B-EF4CE3E099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CF6D31-C013-4417-A686-7941774076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DE9F967-72F6-462B-B022-07F07D578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CCA6773-228B-41B5-A815-DFE2150B85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E4B7BA-5C13-4740-9EE1-D5FAA0114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7E5CD3-42A9-4A85-94D7-F8C5435DA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6A67A9-2F0A-48C4-9005-4F0869D4FD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99F7F3-FF0B-4438-AD10-8DECBC3EB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3EBC9F4-56EB-430E-9773-C84F93430A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E6719-E075-4E87-9851-13112D0DC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9C7F162-5AF9-4D83-A155-C76C3AFB02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9718D01-83F1-4FE3-B50C-ABD61CA6A8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DC6721E-18F2-4905-845D-D0CE4176D7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4321932-02CC-4BE8-AF0F-BB523AB2B8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B8E86E2-C033-437E-A5A2-BB42BF584D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D8DC839-DE1E-4921-B1B3-7237C0F945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71D2B4C-A98D-4935-BFD6-8C6726BCE2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90BF62B-2DBD-498A-A53E-B512A5A0E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F8AAC6E-228D-4284-B84C-CBCBDA1C53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31E648-23E2-43A5-B98C-F978F997E0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A552-DDC0-485C-B6DC-814B3576E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9D4C8AA-EF11-45B2-9AC5-89F463C941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1C4CF43-AD00-441C-AEED-A050751C23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BBA70B4-8413-4B77-A200-034694404F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9085907-748D-482C-B09A-C44056948E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3371B08-D7F7-4E38-B73B-60A7C05066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9E8A17B-783F-44CF-B9A3-ACB5AB4937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43572D2-E9AE-4F8E-9680-A7AC3E479D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DAF8AA8-BCE3-45F5-AACA-FED6D85826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C453CDD-1B42-4918-B5B7-031E445F81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DE38428-8C79-48F4-8420-C7FE04DDE6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7AC6-4166-4AB6-BA80-6D99244C5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DA46BD-1592-4363-BF31-76E2C1AF4A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1502BCE-8B9D-4706-BE5D-2C3616A97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B3C0B83-A3F6-452F-AA8F-9D569112B5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3B9ED68-8FB2-453B-B41E-D4543EB530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6F32F00-801D-4358-8514-A9796B5C54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1EB23-21C3-4684-ADAF-F557CA0D2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8AFC1-1393-4E42-9F70-C791D0A6D90C}"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1436C-E941-40C6-ABBE-66B49751AB7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FC9D6-97F6-421A-B574-621D140C3D67}"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1ECBA-31EB-4C15-9214-96131E70B76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93CC5-55E7-4547-898B-6FA7529B599C}"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3F802-79AD-4664-8D9E-20DE1C7F9F8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3834C-8354-4CFF-B17F-09CEB9C9348E}" type="datetime">
              <a:rPr b="0" lang="en-US" sz="1200" spc="-1" strike="noStrike">
                <a:solidFill>
                  <a:srgbClr val="fff39d"/>
                </a:solidFill>
                <a:latin typeface="Century Schoolbook"/>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0CC3B-0917-490D-8621-D8A006D0DA7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6FC18-77DA-466F-8FA6-F1D2EBBF231A}"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5DFEF-5BA0-483D-B8C4-CA1121960E0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D4CE1-95AA-466F-B768-DAE6901622DB}"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59245-BCD4-47BA-8183-D2D47ED5860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0C7DD-1F12-41C9-8E00-CF77E487FED2}"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21437-3921-4220-A383-01E1CA5EAE3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Schoolbook"/>
              </a:rPr>
              <a:t>Section Four: Reports and Utilities</a:t>
            </a:r>
            <a:br>
              <a:rPr sz="3000"/>
            </a:br>
            <a:endParaRPr b="0" lang="en-US" sz="3000" spc="-1" strike="noStrike">
              <a:solidFill>
                <a:srgbClr val="575f6d"/>
              </a:solidFill>
              <a:latin typeface="Century Schoolbook"/>
            </a:endParaRPr>
          </a:p>
        </p:txBody>
      </p:sp>
      <p:pic>
        <p:nvPicPr>
          <p:cNvPr id="359" name="Picture 5" descr="banner4_103112"/>
          <p:cNvPicPr/>
          <p:nvPr/>
        </p:nvPicPr>
        <p:blipFill>
          <a:blip r:embed="rId1"/>
          <a:stretch/>
        </p:blipFill>
        <p:spPr>
          <a:xfrm>
            <a:off x="923760" y="1665360"/>
            <a:ext cx="7000920" cy="3552840"/>
          </a:xfrm>
          <a:prstGeom prst="rect">
            <a:avLst/>
          </a:prstGeom>
          <a:ln w="0">
            <a:noFill/>
          </a:ln>
        </p:spPr>
      </p:pic>
      <p:sp>
        <p:nvSpPr>
          <p:cNvPr id="360" name="Text Box 6"/>
          <p:cNvSpPr/>
          <p:nvPr/>
        </p:nvSpPr>
        <p:spPr>
          <a:xfrm>
            <a:off x="3535200" y="5692680"/>
            <a:ext cx="1803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verne Proc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T 747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ing 2013</a:t>
            </a:r>
            <a:endParaRPr b="0" lang="en-US" sz="1800" spc="-1" strike="noStrike">
              <a:solidFill>
                <a:srgbClr val="000000"/>
              </a:solidFill>
              <a:latin typeface="Arial"/>
            </a:endParaRPr>
          </a:p>
        </p:txBody>
      </p:sp>
      <p:sp>
        <p:nvSpPr>
          <p:cNvPr id="361" name="Rectangle 7"/>
          <p:cNvSpPr/>
          <p:nvPr/>
        </p:nvSpPr>
        <p:spPr>
          <a:xfrm>
            <a:off x="4042080" y="4988880"/>
            <a:ext cx="10645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013 Follett </a:t>
            </a:r>
            <a:endParaRPr b="0" lang="en-US" sz="1200" spc="-1" strike="noStrike">
              <a:solidFill>
                <a:srgbClr val="000000"/>
              </a:solidFill>
              <a:latin typeface="Arial"/>
            </a:endParaRPr>
          </a:p>
        </p:txBody>
      </p:sp>
      <p:pic>
        <p:nvPicPr>
          <p:cNvPr id="362" name="Custom Indexes_LLP5.ppt256-0" descr=""/>
          <p:cNvPicPr/>
          <p:nvPr/>
        </p:nvPicPr>
        <p:blipFill>
          <a:blip r:embed="rId2"/>
          <a:stretch/>
        </p:blipFill>
        <p:spPr>
          <a:xfrm>
            <a:off x="8648640" y="6362640"/>
            <a:ext cx="343080" cy="343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Custom Indexes</a:t>
            </a:r>
            <a:endParaRPr b="0" lang="en-US" sz="3000" spc="-1" strike="noStrike">
              <a:solidFill>
                <a:srgbClr val="575f6d"/>
              </a:solidFill>
              <a:latin typeface="Century Schoolbook"/>
            </a:endParaRPr>
          </a:p>
        </p:txBody>
      </p:sp>
      <p:pic>
        <p:nvPicPr>
          <p:cNvPr id="364" name="Picture 3" descr=""/>
          <p:cNvPicPr/>
          <p:nvPr/>
        </p:nvPicPr>
        <p:blipFill>
          <a:blip r:embed="rId1"/>
          <a:srcRect l="18367" t="21889" r="6505" b="26126"/>
          <a:stretch/>
        </p:blipFill>
        <p:spPr>
          <a:xfrm>
            <a:off x="665280" y="1781280"/>
            <a:ext cx="7697520" cy="4124160"/>
          </a:xfrm>
          <a:prstGeom prst="rect">
            <a:avLst/>
          </a:prstGeom>
          <a:ln w="0">
            <a:noFill/>
          </a:ln>
        </p:spPr>
      </p:pic>
      <p:pic>
        <p:nvPicPr>
          <p:cNvPr id="365" name="Custom Indexes_LLP5.ppt295-0" descr=""/>
          <p:cNvPicPr/>
          <p:nvPr/>
        </p:nvPicPr>
        <p:blipFill>
          <a:blip r:embed="rId2"/>
          <a:stretch/>
        </p:blipFill>
        <p:spPr>
          <a:xfrm>
            <a:off x="8648640" y="6362640"/>
            <a:ext cx="343080" cy="34308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23600" y="-36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Running a Custom Index Report</a:t>
            </a:r>
            <a:endParaRPr b="0" lang="en-US" sz="3000" spc="-1" strike="noStrike">
              <a:solidFill>
                <a:srgbClr val="575f6d"/>
              </a:solidFill>
              <a:latin typeface="Century Schoolbook"/>
            </a:endParaRPr>
          </a:p>
        </p:txBody>
      </p:sp>
      <p:pic>
        <p:nvPicPr>
          <p:cNvPr id="367" name="Picture 3" descr=""/>
          <p:cNvPicPr/>
          <p:nvPr/>
        </p:nvPicPr>
        <p:blipFill>
          <a:blip r:embed="rId1"/>
          <a:srcRect l="21557" t="20521" r="7909" b="12053"/>
          <a:stretch/>
        </p:blipFill>
        <p:spPr>
          <a:xfrm>
            <a:off x="1028880" y="1379520"/>
            <a:ext cx="6581520" cy="5106960"/>
          </a:xfrm>
          <a:prstGeom prst="rect">
            <a:avLst/>
          </a:prstGeom>
          <a:ln w="0">
            <a:noFill/>
          </a:ln>
        </p:spPr>
      </p:pic>
      <p:sp>
        <p:nvSpPr>
          <p:cNvPr id="368" name="AutoShape 4"/>
          <p:cNvSpPr/>
          <p:nvPr/>
        </p:nvSpPr>
        <p:spPr>
          <a:xfrm>
            <a:off x="1523880" y="2333520"/>
            <a:ext cx="733680" cy="1314720"/>
          </a:xfrm>
          <a:custGeom>
            <a:avLst/>
            <a:gdLst>
              <a:gd name="textAreaLeft" fmla="*/ 468720 w 733680"/>
              <a:gd name="textAreaRight" fmla="*/ 734040 w 733680"/>
              <a:gd name="textAreaTop" fmla="*/ 34200 h 1314720"/>
              <a:gd name="textAreaBottom" fmla="*/ 1280520 h 131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9" name="Rectangle 5"/>
          <p:cNvSpPr/>
          <p:nvPr/>
        </p:nvSpPr>
        <p:spPr>
          <a:xfrm>
            <a:off x="3000240" y="1533600"/>
            <a:ext cx="419400" cy="247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0" name="Rectangle 6"/>
          <p:cNvSpPr/>
          <p:nvPr/>
        </p:nvSpPr>
        <p:spPr>
          <a:xfrm>
            <a:off x="1028880" y="2085840"/>
            <a:ext cx="666720" cy="1047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71" name="Custom Indexes_LLP5.ppt289-0" descr=""/>
          <p:cNvPicPr/>
          <p:nvPr/>
        </p:nvPicPr>
        <p:blipFill>
          <a:blip r:embed="rId2"/>
          <a:stretch/>
        </p:blipFill>
        <p:spPr>
          <a:xfrm>
            <a:off x="8648640" y="6362640"/>
            <a:ext cx="343080" cy="34308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23600" y="-36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Running a Custom Index Report</a:t>
            </a:r>
            <a:endParaRPr b="0" lang="en-US" sz="3000" spc="-1" strike="noStrike">
              <a:solidFill>
                <a:srgbClr val="575f6d"/>
              </a:solidFill>
              <a:latin typeface="Century Schoolbook"/>
            </a:endParaRPr>
          </a:p>
        </p:txBody>
      </p:sp>
      <p:pic>
        <p:nvPicPr>
          <p:cNvPr id="373" name="Picture 7" descr=""/>
          <p:cNvPicPr/>
          <p:nvPr/>
        </p:nvPicPr>
        <p:blipFill>
          <a:blip r:embed="rId1"/>
          <a:srcRect l="22318" t="19347" r="9369" b="41146"/>
          <a:stretch/>
        </p:blipFill>
        <p:spPr>
          <a:xfrm>
            <a:off x="1238400" y="1149480"/>
            <a:ext cx="5752800" cy="2079360"/>
          </a:xfrm>
          <a:prstGeom prst="rect">
            <a:avLst/>
          </a:prstGeom>
          <a:ln w="0">
            <a:noFill/>
          </a:ln>
        </p:spPr>
      </p:pic>
      <p:sp>
        <p:nvSpPr>
          <p:cNvPr id="374" name="Rectangle 6"/>
          <p:cNvSpPr/>
          <p:nvPr/>
        </p:nvSpPr>
        <p:spPr>
          <a:xfrm>
            <a:off x="2048040" y="2286000"/>
            <a:ext cx="2943000" cy="285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75" name="Picture 10" descr=""/>
          <p:cNvPicPr/>
          <p:nvPr/>
        </p:nvPicPr>
        <p:blipFill>
          <a:blip r:embed="rId2"/>
          <a:srcRect l="21760" t="19185" r="7144" b="28711"/>
          <a:stretch/>
        </p:blipFill>
        <p:spPr>
          <a:xfrm>
            <a:off x="523800" y="3962520"/>
            <a:ext cx="6753240" cy="2765160"/>
          </a:xfrm>
          <a:prstGeom prst="rect">
            <a:avLst/>
          </a:prstGeom>
          <a:ln w="0">
            <a:noFill/>
          </a:ln>
        </p:spPr>
      </p:pic>
      <p:sp>
        <p:nvSpPr>
          <p:cNvPr id="376" name="Rectangle 11"/>
          <p:cNvSpPr/>
          <p:nvPr/>
        </p:nvSpPr>
        <p:spPr>
          <a:xfrm>
            <a:off x="2629080" y="5086440"/>
            <a:ext cx="2943000" cy="3999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7" name="Rectangle 12"/>
          <p:cNvSpPr/>
          <p:nvPr/>
        </p:nvSpPr>
        <p:spPr>
          <a:xfrm>
            <a:off x="2495520" y="4572000"/>
            <a:ext cx="2943360" cy="3999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Rectangle 13"/>
          <p:cNvSpPr/>
          <p:nvPr/>
        </p:nvSpPr>
        <p:spPr>
          <a:xfrm>
            <a:off x="3519360" y="5610240"/>
            <a:ext cx="2943360" cy="476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79" name="Custom Indexes_LLP5.ppt294-0" descr=""/>
          <p:cNvPicPr/>
          <p:nvPr/>
        </p:nvPicPr>
        <p:blipFill>
          <a:blip r:embed="rId3"/>
          <a:stretch/>
        </p:blipFill>
        <p:spPr>
          <a:xfrm>
            <a:off x="8648640" y="6362640"/>
            <a:ext cx="343080" cy="3430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3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Running A Custom Index Report</a:t>
            </a:r>
            <a:endParaRPr b="0" lang="en-US" sz="3000" spc="-1" strike="noStrike">
              <a:solidFill>
                <a:srgbClr val="575f6d"/>
              </a:solidFill>
              <a:latin typeface="Century Schoolbook"/>
            </a:endParaRPr>
          </a:p>
        </p:txBody>
      </p:sp>
      <p:pic>
        <p:nvPicPr>
          <p:cNvPr id="381" name="Picture 4" descr=""/>
          <p:cNvPicPr/>
          <p:nvPr/>
        </p:nvPicPr>
        <p:blipFill>
          <a:blip r:embed="rId1"/>
          <a:srcRect l="21760" t="19185" r="7144" b="28711"/>
          <a:stretch/>
        </p:blipFill>
        <p:spPr>
          <a:xfrm>
            <a:off x="457200" y="1600200"/>
            <a:ext cx="6753240" cy="3838680"/>
          </a:xfrm>
          <a:prstGeom prst="rect">
            <a:avLst/>
          </a:prstGeom>
          <a:ln w="0">
            <a:noFill/>
          </a:ln>
        </p:spPr>
      </p:pic>
      <p:sp>
        <p:nvSpPr>
          <p:cNvPr id="382" name="Rectangle 7"/>
          <p:cNvSpPr/>
          <p:nvPr/>
        </p:nvSpPr>
        <p:spPr>
          <a:xfrm>
            <a:off x="3486240" y="4803840"/>
            <a:ext cx="876240" cy="206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83" name="Custom Indexes_LLP5.ppt264-0" descr=""/>
          <p:cNvPicPr/>
          <p:nvPr/>
        </p:nvPicPr>
        <p:blipFill>
          <a:blip r:embed="rId2"/>
          <a:stretch/>
        </p:blipFill>
        <p:spPr>
          <a:xfrm>
            <a:off x="8648640" y="6362640"/>
            <a:ext cx="343080" cy="3430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00:50:33Z</dcterms:created>
  <dc:creator>Proctor, Laverne</dc:creator>
  <dc:description/>
  <dc:language>en-US</dc:language>
  <cp:lastModifiedBy>Proctor, Laverne</cp:lastModifiedBy>
  <dcterms:modified xsi:type="dcterms:W3CDTF">2013-03-12T05:29:51Z</dcterms:modified>
  <cp:revision>18</cp:revision>
  <dc:subject/>
  <dc:title>Slide 1</dc:title>
</cp:coreProperties>
</file>